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8DB6A-145B-4FA0-9A22-7094A6AA9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dc3d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57E31-FF99-46B9-997B-D7D09294B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dc3d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E0044-0C8E-4966-8D7D-EAD717278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dc3d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0BE1A-446F-486B-B25A-E687FC7F3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827EB-4201-46F3-87FF-FE520E664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dc3d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3F67A-8BC8-42CF-ABA0-B71F22CA2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dc3d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F93A7-ECD1-4CB7-8457-021FAD160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dc3d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136FF-707A-4383-A144-19EE44D69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dc3d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4550A-E14F-4BE9-9C72-EC724AB3D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A0529-6D81-4848-99FA-3BD7F6026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dc3d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D030E-219F-4218-BA3A-7B810CA78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dc3d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0E255-F745-41E3-8CAF-1B74DACA9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dc3d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15202-152D-47DE-BEBA-6C5603FC2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dc3d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C2912-F4CE-48C0-89C3-4BD4CE1CA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dc3d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D6A32-8D66-4E82-92C7-77610CEF5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dc3d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4E513-1DF9-41AA-A4B5-D42B3945C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dc3d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B3118-E9F7-4E00-840A-C3E0D0433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70C6CAD-466F-45C4-895E-23BCB5B60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dc3d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C919106-0583-49C6-B43D-CEE24D1F0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dc3d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DE67E59-E549-4F61-8D32-948A1C470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dc3d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4638C00-F022-4F90-9E98-5E05CD466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dc3d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E30C479-E9E1-43A7-B538-6BA45C2CD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dc3d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FA455-7F02-4F2B-A85D-B03E42528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AD5FB7E-624C-4748-80C1-94E4CECDA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dc3d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6ACBF5C-0EC1-4C86-BF16-640046044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dc3d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DC4533A-041F-4A7E-9920-1ACD82A4F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dc3d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0373284-9748-4354-8BE5-3AE2823A9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dc3d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C5A2C71-555B-4998-BED9-7BEE836AD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dc3d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6D54CB4-BE54-4963-892A-7A54C2D16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dc3d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6CB7781-7E05-49BD-AD1F-8D1C34A96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138F77-CD1B-4750-B965-75F3176B1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dc3d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99EC84-E916-4950-BECD-E03E72403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dc3d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FFA766-1FE0-4BAF-AA52-21D107D2F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dc3d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432BF-3486-438F-A7CB-9980592C7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dc3d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EB7225-4571-4143-8BB0-FB9A4A013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dc3d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54ECC0-353B-4CB7-B728-A0B26AB2F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F894EF-01FC-47BD-89DF-8C2E1993B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dc3d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C52D0C-F176-494B-A322-E8F5DC54A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dc3d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19CEF8-9550-4C01-894C-F125C6718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dc3d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9D0A2E-6C84-43B0-B4D4-3BA43D12E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dc3d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D3B50E-4FDF-4925-AA53-63D071542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dc3d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3843C5-0557-4AED-A04E-0746B8516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dc3d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DEC077-7408-464B-99FF-10C125539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6DC3FD7-0985-4FAA-B5E2-80ACCFDE5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dc3d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85647-95F6-44BC-9896-624987F64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dc3d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933133A-331D-4C1B-97A7-E6B68EE9B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dc3d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4BD52F2-2F18-41B6-8E7B-748E81F80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dc3d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A1C6402-05A7-4529-B405-E1F1A15AB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dc3d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69EC008-2DC1-40AD-B16F-852C9C7EA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DD153E6-60C4-4756-8B60-B1524FBC7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dc3d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27971A9-96E6-4223-80A1-190A87138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dc3d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A299B87-82D3-445E-9C34-121F75A74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dc3d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40ED231-DCEE-49ED-BC6B-A005BCAA9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dc3d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C9F29B7-2374-4C78-B454-2CFE4DBEC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dc3d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AFF8DCF-5128-47CF-BEFF-699ADF32A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1196F-4584-4C35-B9B8-339E25267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dc3d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40FB9D2-9F5B-4772-8149-7A63FC130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F30473F-EEEC-40AA-BD0D-5A772C808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dc3d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068E9D1-2A0F-4119-89D9-AAA1F1360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dc3d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F8A234A-DA04-42D3-91DA-17E31C85E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dc3d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AC351BA-55D2-4318-B964-BA55E460D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dc3d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D83DD43-491D-49E0-9D78-841D6B8A3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F729A1E-DF2F-409D-A466-38F7D2FA2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dc3d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7C8C57E-2CB4-4275-BB2E-D6387BE82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dc3d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6A021F9-A9C3-4BC6-A3B1-29DA369E9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dc3d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27EC23D-740E-4E7D-95A7-7EC0A0343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dc3d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D283D-2A43-460A-B344-413869A41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dc3d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E4C86E1-ED14-4304-9D79-69D787F3F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dc3d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E658EA1-CA9D-4DE4-8742-56B24AD2E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dc3d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353AEB3-1329-426A-BFF5-7FB97C163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73E59EB-EF7C-4EF9-99AC-68ACCF62E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dc3d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F157E0F-047F-49D5-80D2-7C1AB402A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dc3d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95D6702-14F3-4F3A-BF01-001457ADF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dc3d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9E6E3D8-1538-4CC7-AFEA-EA7606820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dc3d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7901CAD-C368-4F6F-80DE-A2256A878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10D5453-DCE4-4155-9E38-BA54B8324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dc3d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BFF99FD-34F8-4A5C-BFEC-B1F52A81F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dc3d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604E0-EE07-4984-804B-01676F92E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dc3d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F6E131F-B806-49B4-A242-51FF26F67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dc3d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F8EDBDC-CC09-4A1F-87F2-9C79A7F1F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dc3d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AEDCE64-AE4D-4AB6-8749-1784E35D3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dc3d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6DC9A8C-D697-46A0-9A4E-C477180B7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dc3d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A8DA630-8B3D-4A27-ADFF-8F3D9574E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dc3d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41BF4-0C1D-47AF-87BB-AAA7332C8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aafc7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dc3d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dc3d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73f9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73f9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0c61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aabbd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aacc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dc3d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dc3d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aafc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73f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aafc7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73f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73f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N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28EAB-67C4-4161-960D-37871B7844BA}" type="slidenum">
              <a:rPr b="1" lang="en-N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aafc7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ccedc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ccedc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de8ee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aafc7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de8ee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aafc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aafc7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aafc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traight Connector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aafc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aafc7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73f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73f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73f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73f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73f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dc3d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dc3d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73f9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73f9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0c61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aabbd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aacc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fdc3d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fdc3d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N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56CCE-63B9-4B7D-85E6-6A098C52B5C0}" type="slidenum">
              <a:rPr b="1" lang="en-N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aafc7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aafc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73f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aafc7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73f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73f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dc3d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dc3d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73f9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73f9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0c61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aabbd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aacc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dc3d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dc3d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N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EB2F0-2D15-4DB9-98C0-3573A51DC0FF}" type="slidenum">
              <a:rPr b="1" lang="en-N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c3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aafc7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ccedc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ccedc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de8ee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aafc7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de8ee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aafc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aafc7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aafc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aafc7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73f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73f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73f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73f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73f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traight Connector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aafc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73f9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73f9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0c61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aabbd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aacc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N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9F06E-EDF2-45C9-B2D5-F871C9AF8BB3}" type="slidenum">
              <a:rPr b="1" lang="en-N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aafc7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aafc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73f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aafc7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73f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73f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dc3d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dc3d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73f9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73f9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0c61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aabbd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aacc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dc3d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dc3d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N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C20F9-643C-458C-90B5-238F04807A3E}" type="slidenum">
              <a:rPr b="1" lang="en-N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aafc7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traight Connector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aafc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Straight Connector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73f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73f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aafc7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73f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73f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dc3d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dc3d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73f9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73f9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0c61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aabbd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aacc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dc3d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dc3d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N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CB550-F665-44EC-AAE8-76D9F729819E}" type="slidenum">
              <a:rPr b="1" lang="en-N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aafc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Oval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73f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Straight Connector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aaf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Straight Connector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73f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Straight Connector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aafc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traight Connector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73f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dc3d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dc3d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73f9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73f9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0c61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aabbd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aacc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dc3d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dc3d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N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5AB7D-9B46-4832-B1B1-508D041801F8}" type="slidenum">
              <a:rPr b="1" lang="en-N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357360" y="500040"/>
            <a:ext cx="5105160" cy="2868480"/>
          </a:xfrm>
          <a:prstGeom prst="rect">
            <a:avLst/>
          </a:prstGeom>
          <a:solidFill>
            <a:srgbClr val="fcbfda"/>
          </a:solidFill>
          <a:ln w="57240">
            <a:solidFill>
              <a:srgbClr val="f40c74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40c74"/>
                </a:solidFill>
                <a:latin typeface="Brad"/>
              </a:rPr>
              <a:t>MY BUDDHIST TEMPLE</a:t>
            </a:r>
            <a:endParaRPr b="0" lang="en-US" sz="4800" spc="-1" strike="noStrike">
              <a:solidFill>
                <a:srgbClr val="fdc3d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solidFill>
            <a:srgbClr val="fcbfda"/>
          </a:solidFill>
          <a:ln cap="rnd" w="38160">
            <a:solidFill>
              <a:srgbClr val="f40c74"/>
            </a:solidFill>
            <a:miter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40c74"/>
                </a:solidFill>
                <a:latin typeface="Brad"/>
              </a:rPr>
              <a:t>BY AMELIA </a:t>
            </a:r>
            <a:r>
              <a:rPr b="1" lang="en-US" sz="1800" spc="-1" strike="noStrike">
                <a:solidFill>
                  <a:srgbClr val="f40c74"/>
                </a:solidFill>
                <a:latin typeface="Wingdings"/>
                <a:ea typeface="Wingdings"/>
              </a:rPr>
              <a:t>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38160">
            <a:solidFill>
              <a:srgbClr val="f957a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dc3dd"/>
                </a:solidFill>
                <a:latin typeface="Century Schoolbook"/>
              </a:rPr>
              <a:t>MY FIRST STEP WAS TO DRAW THE BUILDING ON PAPER.</a:t>
            </a:r>
            <a:endParaRPr b="0" lang="en-US" sz="3000" spc="-1" strike="noStrike">
              <a:solidFill>
                <a:srgbClr val="fdc3dd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500040" y="164268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73f92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eb500"/>
                </a:solidFill>
                <a:latin typeface="Century Schoolbook"/>
              </a:rPr>
              <a:t> </a:t>
            </a:r>
            <a:r>
              <a:rPr b="1" lang="en-US" sz="2400" spc="-1" strike="noStrike">
                <a:solidFill>
                  <a:srgbClr val="ceb500"/>
                </a:solidFill>
                <a:latin typeface="Century Schoolbook"/>
              </a:rPr>
              <a:t>Here is my building at stage 1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73f92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5" name="Picture 3" descr="IMG000051.jpg"/>
          <p:cNvPicPr/>
          <p:nvPr/>
        </p:nvPicPr>
        <p:blipFill>
          <a:blip r:embed="rId1"/>
          <a:stretch/>
        </p:blipFill>
        <p:spPr>
          <a:xfrm>
            <a:off x="2143080" y="2500200"/>
            <a:ext cx="4524480" cy="339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dc3dd"/>
                </a:solidFill>
                <a:latin typeface="Century Schoolbook"/>
              </a:rPr>
              <a:t>MY SECOND STEP WAS TO DRAW THE BUILDING ON SKETCHUP.</a:t>
            </a:r>
            <a:endParaRPr b="0" lang="en-US" sz="3000" spc="-1" strike="noStrike">
              <a:solidFill>
                <a:srgbClr val="fdc3dd"/>
              </a:solidFill>
              <a:latin typeface="Century Schoolbook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0" y="1643040"/>
            <a:ext cx="7238880" cy="43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73f9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s is my building at stage 2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8" name="Picture 8" descr=""/>
          <p:cNvPicPr/>
          <p:nvPr/>
        </p:nvPicPr>
        <p:blipFill>
          <a:blip r:embed="rId1"/>
          <a:srcRect l="46119" t="11967" r="2781" b="16242"/>
          <a:stretch/>
        </p:blipFill>
        <p:spPr>
          <a:xfrm rot="120000">
            <a:off x="258480" y="3050640"/>
            <a:ext cx="2928960" cy="257184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359" name="Picture 2" descr=""/>
          <p:cNvPicPr/>
          <p:nvPr/>
        </p:nvPicPr>
        <p:blipFill>
          <a:blip r:embed="rId2"/>
          <a:srcRect l="3204" t="15789" r="2244" b="7894"/>
          <a:stretch/>
        </p:blipFill>
        <p:spPr>
          <a:xfrm rot="20880000">
            <a:off x="3429000" y="2143080"/>
            <a:ext cx="4214880" cy="207180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360" name="Picture 3" descr=""/>
          <p:cNvPicPr/>
          <p:nvPr/>
        </p:nvPicPr>
        <p:blipFill>
          <a:blip r:embed="rId3"/>
          <a:srcRect l="10665" t="12803" r="14669" b="8268"/>
          <a:stretch/>
        </p:blipFill>
        <p:spPr>
          <a:xfrm rot="900000">
            <a:off x="3008160" y="4332240"/>
            <a:ext cx="3243240" cy="21430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dc3dd"/>
                </a:solidFill>
                <a:latin typeface="Century Schoolbook"/>
              </a:rPr>
              <a:t>NEXT I HAD TO ADD MY TEXTURES</a:t>
            </a:r>
            <a:endParaRPr b="0" lang="en-US" sz="3000" spc="-1" strike="noStrike">
              <a:solidFill>
                <a:srgbClr val="fdc3dd"/>
              </a:solidFill>
              <a:latin typeface="Century Schoolbook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73f9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s is my building at stage 3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3" name="Picture 2" descr=""/>
          <p:cNvPicPr/>
          <p:nvPr/>
        </p:nvPicPr>
        <p:blipFill>
          <a:blip r:embed="rId1"/>
          <a:srcRect l="9002" t="11995" r="13005" b="8798"/>
          <a:stretch/>
        </p:blipFill>
        <p:spPr>
          <a:xfrm rot="21060000">
            <a:off x="357120" y="2387160"/>
            <a:ext cx="3289320" cy="208764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364" name="Picture 5" descr=""/>
          <p:cNvPicPr/>
          <p:nvPr/>
        </p:nvPicPr>
        <p:blipFill>
          <a:blip r:embed="rId2"/>
          <a:srcRect l="3715" t="8915" r="3404" b="13809"/>
          <a:stretch/>
        </p:blipFill>
        <p:spPr>
          <a:xfrm rot="480000">
            <a:off x="3932280" y="2241360"/>
            <a:ext cx="4670280" cy="24285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365" name="Picture 6" descr=""/>
          <p:cNvPicPr/>
          <p:nvPr/>
        </p:nvPicPr>
        <p:blipFill>
          <a:blip r:embed="rId3"/>
          <a:srcRect l="0" t="11578" r="0" b="13153"/>
          <a:stretch/>
        </p:blipFill>
        <p:spPr>
          <a:xfrm>
            <a:off x="1928880" y="4643280"/>
            <a:ext cx="3948120" cy="185760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dc3dd"/>
                </a:solidFill>
                <a:latin typeface="Century Schoolbook"/>
              </a:rPr>
              <a:t>NEXT I ADD SOME FINISHING TOUCHES</a:t>
            </a:r>
            <a:endParaRPr b="0" lang="en-US" sz="3000" spc="-1" strike="noStrike">
              <a:solidFill>
                <a:srgbClr val="fdc3dd"/>
              </a:solidFill>
              <a:latin typeface="Century Schoolbook"/>
            </a:endParaRPr>
          </a:p>
        </p:txBody>
      </p:sp>
      <p:pic>
        <p:nvPicPr>
          <p:cNvPr id="367" name="Picture 2" descr=""/>
          <p:cNvPicPr/>
          <p:nvPr/>
        </p:nvPicPr>
        <p:blipFill>
          <a:blip r:embed="rId1"/>
          <a:srcRect l="0" t="8340" r="0" b="11111"/>
          <a:stretch/>
        </p:blipFill>
        <p:spPr>
          <a:xfrm>
            <a:off x="214200" y="4357800"/>
            <a:ext cx="4114800" cy="207144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368" name="Picture 3" descr=""/>
          <p:cNvPicPr/>
          <p:nvPr/>
        </p:nvPicPr>
        <p:blipFill>
          <a:blip r:embed="rId2"/>
          <a:srcRect l="0" t="11562" r="0" b="10367"/>
          <a:stretch/>
        </p:blipFill>
        <p:spPr>
          <a:xfrm>
            <a:off x="4572000" y="1571760"/>
            <a:ext cx="4098960" cy="21430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369" name="Picture 4" descr=""/>
          <p:cNvPicPr/>
          <p:nvPr/>
        </p:nvPicPr>
        <p:blipFill>
          <a:blip r:embed="rId3"/>
          <a:srcRect l="0" t="10376" r="4323" b="11789"/>
          <a:stretch/>
        </p:blipFill>
        <p:spPr>
          <a:xfrm>
            <a:off x="214200" y="1571760"/>
            <a:ext cx="4214880" cy="21430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370" name="Picture 5" descr=""/>
          <p:cNvPicPr/>
          <p:nvPr/>
        </p:nvPicPr>
        <p:blipFill>
          <a:blip r:embed="rId4"/>
          <a:srcRect l="7019" t="11230" r="9759" b="13370"/>
          <a:stretch/>
        </p:blipFill>
        <p:spPr>
          <a:xfrm>
            <a:off x="4500720" y="4214880"/>
            <a:ext cx="4214520" cy="23860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829640" cy="536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dc3dd"/>
                </a:solidFill>
                <a:latin typeface="Century Schoolbook"/>
              </a:rPr>
              <a:t>THEN YOU ARE DONE!!!!!!!!!!!!!!!!!!!!!!!</a:t>
            </a:r>
            <a:endParaRPr b="0" lang="en-US" sz="8000" spc="-1" strike="noStrike">
              <a:solidFill>
                <a:srgbClr val="fdc3d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8T23:30:49Z</dcterms:created>
  <dc:creator>Diocesan School for Girls</dc:creator>
  <dc:description/>
  <dc:language>en-US</dc:language>
  <cp:lastModifiedBy>Diocesan School for Girls</cp:lastModifiedBy>
  <dcterms:modified xsi:type="dcterms:W3CDTF">2009-09-03T23:51:31Z</dcterms:modified>
  <cp:revision>157</cp:revision>
  <dc:subject/>
  <dc:title>My Steps</dc:title>
</cp:coreProperties>
</file>